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7AAD-7AB4-4AB2-9B25-3B09A3E74F29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1BB3-4820-4D0B-9B8D-3A6286120E2F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A6B9-CF8B-4C64-AC2F-2A272772314A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C7F-C82E-4CA4-8B50-1E388B9C66BC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4377-DD9B-4758-A16E-D7465992797C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6BCF-6F2F-45F6-B4DB-81E18A9C1CBA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5A9-7AE8-4EEA-9174-6145C103641D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2456-BD1B-448B-A929-AEC25FCC525B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D78-EF02-4F5D-86CF-671F06D0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233-F921-4D60-BCED-FB06B139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7D82B-9C22-4FED-8B94-3AE5818C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4F3DE-811F-46DC-8743-003AB053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E3C27-A643-4CB9-91B1-E27CA8BF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B2BE4-243C-470F-9BE9-DE00E07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B6621-FB71-42C5-BEC0-6B87251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25257-4B09-46B8-BA67-A8C4C0A2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E2646-A465-4A57-8BA1-C4A6515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524D5-ACD9-4B60-88CE-149AB3FA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B1D1-8D91-4E1D-9E14-65F0E6DD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8D7E0-BF87-4D81-BB87-746BBE63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2BF-B313-4BB5-833F-19994A59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E88C-7013-40AC-84E9-9B9D8FB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FC723-9E5C-4EAA-BBE6-F5BE2B99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C6070-5D30-4E2A-8809-A4C12AD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B4EBF-7AD0-4C37-A904-A41249CB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E76C5-2350-4E26-9EC6-49BA2CF2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BF999-5C42-4B39-BB57-4198732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5FF0C-2D58-4F86-A180-1B3BC7E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48502-039D-42D2-8912-DA79756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52111-FF50-47B1-9201-D245E3B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4765A-9693-4478-97DB-23D7E368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891-4E01-4FB1-B562-75D88C23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67D7C-101E-4CA6-AC55-B33F3737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6F5E-4838-453C-B5A0-3AF06E38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9802-B2DF-423E-9750-F75215ED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5E403-23B8-468D-A122-A0B943A4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F7368-096E-451F-A95E-6E2290D2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B29F0-C235-4BA7-8A60-C624ECF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0E733-8DCC-453C-913A-AAD978F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0D90D-8533-4077-A87C-ADF4BB2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8548D-596D-413D-9EDA-A2768BB5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52290-1ECA-4107-A18A-75524AA1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3A99-39F5-4119-B0C8-650649F1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23A2D-B698-42FB-A7D5-87DD886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F832-F8E0-493C-99CC-6F520DB3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0612A-CA97-410D-964B-D9CB0FBF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58BCF-AFB1-44C0-9241-2B135933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D4B7D-C86D-484A-9CF0-535BD6A0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24805-FD4E-4EC3-B571-DFC49500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8A843-A0AE-4A81-96A3-DB75CFC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7CF26-9998-4F06-8859-FEDBD9F8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81763-5C7D-4FC9-A84E-2B06796F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8E2C9-F7BA-4E1C-9AB7-6234F0E9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1397-842B-4682-A408-6A2671C6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4C1F-5B85-4AE3-A2C0-4E0A3C33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A1681-BF94-4E8E-82B2-034B7D5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AC11E-B036-4DFE-99E5-CBD0E67A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FA4E5-C634-4920-B726-36B44D1A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8F196-45DB-40BA-B94E-1EFE9796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CAF3-621E-4849-BA9B-2946272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6177-3750-4746-A882-D8C2D69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1F8F-5ABC-4BF9-9BFC-32F0A428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6034-91E2-4E2D-8EE5-A71B85D8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326-66C7-450D-8F70-0EF1891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255-B9A2-4CA4-AC5A-46342E0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A00-7EAB-4EBB-8DFC-7198B49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1B1-7843-49A1-85A1-EA2DF5C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865-FB06-4714-9A0F-B9071BAD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62A-DC34-4D19-8CF4-9ADC03C2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6298-D4CE-4679-82DF-6135F590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6721-7482-4044-9774-6B0885F6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6CC0-F025-44D3-BDB5-793A8D8C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564B-5A23-4DCA-BBCF-AA6D168A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115F-CDCE-43E5-9C33-851BFC7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D4B9-826D-4455-9B1B-3C064D38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EA0-0388-419B-86B5-C9724317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33D1-964B-499A-B45B-EAC3EDE8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ABEC-A4EB-444D-98D7-B46407A5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2923-52CB-4CE0-AF93-4DE29677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1EBE-6A17-46DE-887C-5DAAE6F7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13EF-A3B3-4488-BB15-3FB0B18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A99E-545B-421B-BF98-356FF31A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71C9-8147-4B45-8249-E362AC6F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92DE-E622-4420-A344-71EFFF0A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2CF4-3B24-4CC4-B75B-73756135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7EBC-4D8C-45A4-8FAB-0AF48FCA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927-E6DF-428F-BF33-C745870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A87B-AB8B-4881-A71D-94A3A6F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1CE2-4AD8-4BB6-B5C2-DE403C8A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C4F3-8FDA-43E5-81BC-4DF47743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3F5E-7D5F-4758-A286-99CE171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B0AB-475E-40CE-AD56-52F5458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8606-03F1-4675-8CDF-19C9824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69AE-C680-49DC-A0FF-8ED08EA4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0658-0D87-4497-9050-4691A60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435C9-6F04-4DD9-A718-B5715469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EDF0-8B40-46E5-9AE3-CED5CAA0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DDD-86BC-4BB3-8D3D-16D1A102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D62D-EAEF-4976-9CBC-6D217039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A643-F67F-4677-8B63-B097CAF0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3C122-BFF4-4838-9416-FFE9EC34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1BAAE-1BA9-4527-AE62-D0C5BBB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E085-E649-4766-82B9-0C6D52E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3BAD-D600-4B82-A175-4BB1F35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39C0-28B2-4343-A868-249D1DA4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374A-5BFB-4083-A17D-50EBDAC0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CBAD4-EF10-4999-95E1-D02C4D55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D9E7-10FE-4837-BC6A-CFCA47E2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F5B-E2C5-4C34-8D14-3919A884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BD255-77DF-4F12-9EFB-2A426558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695B-89BD-4918-AC41-9D0A7320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B7787-F0E9-41C8-B458-C46AFD6B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6EABB-0BF7-41A0-B4CE-3ACC3185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428BC-BCB0-4422-8F12-48850E43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667B1-441D-4F29-A8A1-C79A9FE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D24E5-902F-4F82-88BF-61B3C9D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BBF67-26DB-495E-85B4-8937B57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276E-EDD8-465B-92B3-8B2453C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B802D-26A9-4C3C-98C8-E6C9421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8B6-63BE-4A4B-8284-AA579EFB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C814-DC25-4B8C-83A3-582CDA0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87DCD-60A7-4D5F-BE37-1360FE99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E335-FD5B-432C-82C6-645A0660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AEEF5-1676-4650-AD04-03791D77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3090-682C-4F94-B72F-94798AAF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4A0D-219F-433C-BDB9-DEE137ED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FBD1-A65B-4E91-AF46-D59CFECB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643B9-A815-45BC-92F4-D8A10E56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6D4D-9A0F-4177-8168-4596A06D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37C1B-227A-466E-9307-6D6F85D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8F1-072E-4242-91AB-BCCFA5C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365D-240A-45DD-B7B5-A97882F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5711-549B-48EE-8D2A-C57DE61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D4DE0-AD8C-4D0A-AF53-6EFFEFE4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04871-D937-4151-A81E-28670CF5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11C0D-77F7-417F-AEC4-28A8EB95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694BD-8443-41AD-8E13-B6E5B53B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032A1-A140-4475-82E2-9A34CC8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390DF-E22B-4F7D-811B-F88CB2F9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3F80-8464-4C79-83CF-3808ED27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0C8A2-F35C-4842-8FF7-8E2259F3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BE3-3500-48B6-AE88-0F2367E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65F6-1326-48E1-BC2A-4B83CE99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036C7-D809-4298-A917-EE4A5C6A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1A47C-E980-4022-934F-26FF8D2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3239-5780-4A21-82D0-6DD651A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C727E-35D0-4E9D-AD31-F10B2D7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1190B-A475-4536-A0E9-EF5EAAE3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DD087-C659-40F8-AD55-E8A785E7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DEF51-7E04-491B-871F-82079E31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B7332-9301-46BB-A58E-FEF7959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B8054-8281-47FB-882C-BCF1532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77D-4733-40F8-B97C-06318AD421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9029-5CEB-4BA2-893C-CA11F08A58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0273-E452-4911-8223-106AFE985F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F5DB-5C98-4D98-9A42-C1A7821D32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E31-1661-4692-A330-8CD4A4859D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33DE-CA59-47FE-B139-630888EC26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7B55-1BB7-42FC-9209-A0598A3008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20C-DBF6-405F-9843-FC261ADCED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324-0F96-4990-9BDC-4B9ED6A497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C5F5-AC73-439C-828C-093E1E1EFB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22E5-935F-4C01-A334-FFBED137C7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1B51-D687-49CC-B126-029243AB1E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6 Pán na Sione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na Sione vlád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jasá celý svet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zve nás k trónu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 zbaviť všetkých b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slávu jemu znej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naše piesne chv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d ním sa všetci pokloň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Pán je, slávy K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Pán je svetov Tvor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riadi dráhy hviez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mocnou svojou rukou chc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naše kroky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stoj vždy v jeho služ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ním zostaň v každ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k piesňam nebies zástup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nes svoj pripoj hl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o vesmíre ce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a jemu vyrovn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nás bázeň svätú vzbudz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á láska úchvatn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m v Synovi dal spás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k miloval Boh sve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ej radostná zvesť záchrany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ez Krista spásy niet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2:55:45Z</dcterms:modified>
  <cp:revision>25</cp:revision>
  <dc:subject/>
  <dc:title>Je veľký náš Pán, on slávy je Kráľ Nech do všetkých strán  spev vrúcnych znie chvál.</dc:title>
</cp:coreProperties>
</file>